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9787-F9E8-4141-B1C0-23D52B6FB7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1E7-04AD-4C22-ABFD-D03F2716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B6A-3ABC-471B-A482-432EC2CA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301-FDF9-450A-8350-D97313E0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D8A-14EA-41B3-9B67-57B17878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018-9500-4354-A203-45F75256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2F8-6E76-48AC-B39B-1DE2CAE8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71B8-A57B-4CA4-B7A0-CA34EC91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CF2-775B-48F0-893F-5D8762F4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E2C-142F-450C-8335-85E8EFFF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EFC-087F-4AA3-8B09-FE333AEE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78B-F6F3-423B-8ACD-60631A5D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F92-19DE-4ED0-8066-A9D4E11A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B5C0-1B64-423A-83A6-703589E2029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ull-Ambassador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907920"/>
            <a:ext cx="82072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olbein-ambassadors"/>
          <p:cNvPicPr/>
          <p:nvPr/>
        </p:nvPicPr>
        <p:blipFill>
          <a:blip r:embed="rId1"/>
          <a:stretch/>
        </p:blipFill>
        <p:spPr>
          <a:xfrm>
            <a:off x="1800360" y="695160"/>
            <a:ext cx="554328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95280" y="907920"/>
            <a:ext cx="2521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76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39400" y="5537160"/>
            <a:ext cx="68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39640" y="836640"/>
            <a:ext cx="237672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kull-Ambassado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2633760"/>
            <a:ext cx="15717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olbein-ambassadors"/>
          <p:cNvPicPr/>
          <p:nvPr/>
        </p:nvPicPr>
        <p:blipFill>
          <a:blip r:embed="rId1"/>
          <a:stretch/>
        </p:blipFill>
        <p:spPr>
          <a:xfrm>
            <a:off x="2987640" y="692280"/>
            <a:ext cx="5543640" cy="5467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5280" y="836640"/>
            <a:ext cx="2376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The Ambassadors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153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mail received 17 Nov 0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rnolfinibig"/>
          <p:cNvPicPr/>
          <p:nvPr/>
        </p:nvPicPr>
        <p:blipFill>
          <a:blip r:embed="rId1"/>
          <a:stretch/>
        </p:blipFill>
        <p:spPr>
          <a:xfrm>
            <a:off x="1979640" y="333360"/>
            <a:ext cx="504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rnolfinibig"/>
          <p:cNvPicPr/>
          <p:nvPr/>
        </p:nvPicPr>
        <p:blipFill>
          <a:blip r:embed="rId1"/>
          <a:stretch/>
        </p:blipFill>
        <p:spPr>
          <a:xfrm>
            <a:off x="3780000" y="260280"/>
            <a:ext cx="5040000" cy="619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549360"/>
            <a:ext cx="3708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5564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6040440"/>
            <a:ext cx="99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rnolfinibig"/>
          <p:cNvPicPr/>
          <p:nvPr/>
        </p:nvPicPr>
        <p:blipFill>
          <a:blip r:embed="rId1"/>
          <a:stretch/>
        </p:blipFill>
        <p:spPr>
          <a:xfrm>
            <a:off x="2627280" y="54936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250920" y="549360"/>
            <a:ext cx="165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rnolfini st margaret"/>
          <p:cNvPicPr/>
          <p:nvPr/>
        </p:nvPicPr>
        <p:blipFill>
          <a:blip r:embed="rId1"/>
          <a:stretch/>
        </p:blipFill>
        <p:spPr>
          <a:xfrm>
            <a:off x="3276720" y="333360"/>
            <a:ext cx="568800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50920" y="404640"/>
            <a:ext cx="2952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Johannes van eyck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fuit hic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was here).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14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 and brush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ora et labor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pray and 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rnolfini chandelier"/>
          <p:cNvPicPr/>
          <p:nvPr/>
        </p:nvPicPr>
        <p:blipFill>
          <a:blip r:embed="rId1"/>
          <a:stretch/>
        </p:blipFill>
        <p:spPr>
          <a:xfrm>
            <a:off x="3348000" y="404640"/>
            <a:ext cx="5473800" cy="5473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95280" y="836640"/>
            <a:ext cx="252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arnolfinibig"/>
          <p:cNvPicPr/>
          <p:nvPr/>
        </p:nvPicPr>
        <p:blipFill>
          <a:blip r:embed="rId1"/>
          <a:stretch/>
        </p:blipFill>
        <p:spPr>
          <a:xfrm>
            <a:off x="3564000" y="26028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24000" y="333360"/>
            <a:ext cx="32400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2:32:41Z</dcterms:created>
  <dc:creator>Any Authorised User</dc:creator>
  <dc:description/>
  <dc:language>en-US</dc:language>
  <cp:lastModifiedBy>RomaK</cp:lastModifiedBy>
  <dcterms:modified xsi:type="dcterms:W3CDTF">2015-09-02T09:54:04Z</dcterms:modified>
  <cp:revision>36</cp:revision>
  <dc:subject/>
  <dc:title>Slide 1</dc:title>
</cp:coreProperties>
</file>